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2E31-83E0-43B4-9162-4464B3E8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87E1-B7D3-4626-91BF-7F0AB086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CFB-EBDE-4266-8A29-841450FA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F81-6F63-4259-B395-6885E6DE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8FCF-2EEA-4F60-915B-8F12F956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2F5-1A12-4EA8-B7CF-038B92D6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85D-C3C3-4076-9E97-9AE5022F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7DF7-B090-4977-BDC6-6BC1EEC7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E75-B5CA-4249-AD43-0B041629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62C4-41AF-467F-98F3-E703B740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14BC-68E1-47CA-ACF4-1C01D5D7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D5D-E00A-420C-9A20-7E8A6A66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88B9-2A3A-4534-A5C1-65EC062B0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nologia na Minha Esc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cando de Apren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idias ullizn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u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mera Dig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í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v – VBDSGBBX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utadores – Na sala de informatica temos 8 computadores, mas não funci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mera Digital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20:40:54Z</dcterms:created>
  <dc:creator>NTE</dc:creator>
  <dc:description/>
  <dc:language>en-US</dc:language>
  <cp:lastModifiedBy>NTE</cp:lastModifiedBy>
  <dcterms:modified xsi:type="dcterms:W3CDTF">2009-05-28T20:41:45Z</dcterms:modified>
  <cp:revision>1</cp:revision>
  <dc:subject/>
  <dc:title>Tecnologia na Minha Escola</dc:title>
</cp:coreProperties>
</file>